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67A-E3B1-45B4-9D0E-E983536E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917-EE6E-45E7-ABD8-EFB1414D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7725C-96D8-427B-88EC-C6586718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557E8-14DC-428E-87E6-6AD968BF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BAAF1-D2D5-4F7B-AAD9-E68B2C31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B01B9-962F-4D90-9B72-76F588B3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57CCE-911C-401E-A02E-917AB5D7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7CFB5-E30E-4EFD-B251-3545919A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E5EB3-C980-4F22-ADA4-356453A9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9D7E1-8917-42D3-B35D-BFD1048E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E8E45-4B90-49C5-BF5A-5D5BDD28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28D31-7778-4C77-B0EA-CD65152C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231-CB9E-490C-947F-AE286546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D5810-65AC-44AB-9C47-B925CE88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CF264-2999-4867-8122-B78592EF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B14A0-0328-47EA-9037-72B8D18D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40141-410B-4D58-B532-9C713C3C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BA17E-D18F-41CB-A28C-23502268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CF736-2010-44C5-8260-A6CAB70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1265C-AACA-4841-A02F-29DF2303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56D72-D232-49E4-8BA9-C2FE879B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98607-9CE6-4528-9868-AB36A555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0DF85-AD5E-49B1-AEBB-52E5719E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780-C823-4A48-970F-C195EC3A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02FE6-63AC-4423-AA11-63FC480B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C1B31-BEFE-442B-B2BA-B3D17B98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76754-F173-496E-865C-A23CFC42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A9B14-CE54-4600-A176-7C8BA065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E331A-0265-4EC8-8B14-E3EE2D81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3CEF3-C1CF-4E7F-ABBF-59109F69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BE93C-5890-4869-A82A-712F403A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95CC2-C753-473B-B156-09FFE8A5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AD252-6470-4D71-999E-A4425691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3C930-5794-421D-9B9B-8B476C3C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C5E1-D898-4B2C-912C-4B468474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252BB-79A2-4D08-84B4-4721F42D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7E4F0-D51E-4920-B027-D9217A70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7E649-7D88-4B14-B7BE-AA362C16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4D7E3-C755-4591-AFDB-96A1CC88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89953-C3DF-4895-BB34-E1299DEA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90D0B-86FF-43FE-90C6-D709D6BF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A6810-AAEF-4750-B8CB-D42E371B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4A362-32D6-464C-8E04-86751ABB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B6BA0-472C-4C63-A316-1B3E1A63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41679-FB7F-442D-A5C7-688B9ADD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3C2B-6115-4624-98FD-A7E92ADC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86EFD-6F9E-4F71-A89C-F2CB7EDA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3E6E8-663D-4E7B-9B35-2467F170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4E81A-FB88-4784-9B05-59B636A3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E1ECA-0D86-4235-A35B-E27F9723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6C180-C88A-4A20-B2A3-4206B18D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41D3C-B47B-4978-BFB2-8E17ED64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DE832-C458-4F0D-A415-63DB789B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3106B-4C29-4411-BEE0-55E47751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6B66F-FB3F-4DA1-A12E-E8BEF88A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076F0-6C35-4D2A-9B9C-D889161A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BEFC-C44C-4EE1-8F5E-E2E73403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CBE16-5A08-413B-B20A-4EC239A9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EEE26-E33B-44A2-92A4-3E1F2452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29A85-88DF-46DE-8B78-C9E377A3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240ED-5793-48DC-A476-F033DFCC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2575C-9BA8-45FE-AECE-5A5B3644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ACD22-4271-443B-A19F-5E8D38AB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04316-EA67-43AC-993C-30E50434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137F36-DFB9-47DB-89EB-BB01602E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33EA4-B371-4151-8F0D-EF364B64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2AD86-BFB8-4FFD-BF8E-9C369DE6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A1A6-50E7-4490-9400-A202A307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94DFB-EB1F-4B2B-8366-2BC5FFBA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E4012-2972-4747-81AC-14103C75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E525E-7E55-4BAD-9080-E0CBAA5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19D4F-E417-4F20-9EEF-4CF376C0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C72FE-B3F5-4840-9F2D-B5E64FE1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736526-E53C-4281-9423-09B8EE0B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B1921-82D4-4416-8410-EB087B39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E8AE6-884E-4959-A484-B6C6B0FB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10CBB-AC67-4448-9A84-3B0116CF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CEA67-6F7F-4845-B372-9945293D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AC53-B496-434C-B293-B72CA990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6D3C46-DA3B-45A3-806D-5DC896EB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0CD58-B04F-44A4-929F-4288D7A4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6A25CD-7176-4B05-8F4F-197ED948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3D6CC-43E3-4C20-8693-2809974B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FC76B-BBEA-4E72-86DF-27F59405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E6D31-3E21-456A-B3DE-8712D5B2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3CB1B-14DC-4F1C-B8D7-2BA96A9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C8236-9157-4F0E-8E08-1D6E19EC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A82C48-B4E6-4B85-BF48-0B296814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A3D83-4A20-4F2F-B16F-73A1C1B3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6A7A-B9CB-45E2-92A6-E8BF8D5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E345C-18A2-450E-A6B2-B1F4469B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DE350-6BDB-488B-B0CF-684A87E5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ABE5C-45AB-4E30-A894-BFCEE875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662A9-B7CD-4403-AD57-F9C1B16C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8723E-85DC-405A-99DF-97BE08CD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AF48A-892A-48B6-8F10-DF705897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75D0A-4A27-4F28-8C55-69217097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2BFF6-9FB4-4B02-95AA-BC75C80B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C6DF3-132D-4209-BBE5-589E8C9E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150AE-DD88-4CDF-8E86-42132008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2B3D-471C-4485-B8FF-7FCEBDE0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62A7C-6276-4580-8E39-BD606D3B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E2CE9-828A-4441-BBFB-DC054DD4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58202-7FF3-409C-83C6-FA04EFED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5D28D-9898-48DF-AC14-0D7A2B47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18A3E9-E58C-426F-AC70-4A78615C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6BD72-39D2-4CB8-A1A2-9C877F36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3CDCD9-6EE9-4097-9DD8-021031E2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C8D85-F161-4CCA-BB1F-B54178CD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60CF9-5922-463C-9C25-A963B7FB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B14A2-24F2-489E-87B2-D1856A49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DD0-9CDA-491C-9195-E94B5C8A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9CA7-788F-4A40-8FF6-0029DC94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D5F33A-5A57-4CD2-9CA0-A39FF2F5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1C2F81-57D5-41AA-BA7F-AD98A37D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B37B1-67E3-4BE4-8A25-56DB76C9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F459B-303F-45FE-9511-C99F9F8D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3F9E72-4ACA-48C8-A048-1A83A49C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4AFD8-B1B6-444F-8CBF-6B4CD201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2A3549-86FC-4D5C-B5F6-954389BD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17EF6-C454-4CF7-841E-32B1A012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9A0B6-2CCB-4767-A7BE-D8288051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3C97A6-0157-4FD1-AEA6-97B70703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BB6C-87F2-46EB-AC48-8D674B5F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9DDD7-61AE-4D15-A262-135A7B2D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5AFE2-92DD-4A2C-8D3F-13927226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24007C-F265-477A-A480-F046C27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33622-CFB8-4356-A3C4-CC3B8DDE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51B6CD-55FC-41CD-A5AF-11CECA7B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3F804-1B48-49BA-B095-C576467E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F033A-7ED1-494D-85C8-021A78DA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136F6F-2EE0-40C3-86E8-1E1CA957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AECE0-E08A-4A00-B4D4-E0FCF385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B98D9-C9DB-46B2-A8FD-C2A3EA3E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4300-C48D-4D1F-898F-0664E17D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826C41-711F-4E2D-981D-EE9F59D7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A6172-E2C5-457A-8CDB-622261A9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EE053-657E-4359-861E-8BE95EB9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E221AB-D774-40DF-BA38-45B2085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C5DB10-C8B1-4D73-82AF-7A136AAE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17C75C-7AEE-4B6A-9EB7-E6CEF37E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07E45F-3DDE-4426-9832-6EDE2AE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48507-D608-422E-A2A8-813B134C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E6D7BC-A36A-4AE9-97C0-848F8E9E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7BA7EF-F1D4-481D-A8A0-3EA88372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0E42-CC2A-4A2C-8995-E7FF2E92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C633F2-410E-47A9-926E-19DF5024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4A09F-6922-4BD6-963F-FA3E6DDD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F3D131-E4B0-40DE-9FAC-5AFEE3A5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B01854-261E-4E6E-9381-529FED9E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41968-D22E-477D-B4EB-3EB335CF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790FC-32FF-4AC1-9BFD-D15221C3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F7AB8A-A1C8-4DE2-A903-EEF16008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616BD-F13C-47DF-928F-AC9A416E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7A7E7-C383-4F8B-9043-AF85BEA7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E78337-2E1A-4973-9E1D-4E32E0EA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4B6D-54FD-49E6-A3FF-CA530F94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3ECBF-20F9-4494-AB42-DC304DEE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700329-205B-483F-8A01-C4BC5783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3A137-32C1-4FE4-A40C-996684DE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B066F7-33BC-4F28-9484-C5680ED9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6C36B8-1F83-479E-BDA9-FB1DDEE6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E3E65-D0AF-4F09-9B67-D08232AE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BA79BF-1118-429C-9C99-B3B00859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8B6FF-757E-4574-A9CC-455FAC5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FDA9E-6DE8-45F4-B45D-5CAE007B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520FD5-8462-4AA3-AD1E-E10DA413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AA43-C087-4D1F-812E-22AB2F5F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15E894-9D23-4836-A65B-C1281885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DD95A0-80C3-46DA-A077-98E45B86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8F748C-8C56-4F4C-9212-B804D957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0F05-79BF-4241-B352-D6541B7B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EAEA-4DC2-4425-B4CA-4DDB9840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54B9-B33C-4D30-A772-9DE4705D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2E5F-B7A0-4BA1-B535-350E3F7E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29E-5228-4C6E-AB47-E2917CCB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12BC-DE89-4413-A9FE-C70E8D57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BCEFD-33E1-4C06-8605-8503FC4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E701-D319-413B-8B34-E7E7B2CC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C0B1-718B-4768-8EB3-4F1E985D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9E7D-35F4-40C0-8409-6B3296E6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67DB-1E10-4514-8AAA-66773A7E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B3BD-31DB-4BB4-BE50-08807165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DF37B-DA69-4873-A6B9-E4CC5D18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99A0C-C653-4AA6-8840-81EBD22B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D044-9304-4BF0-81CF-9076EC23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394-6F93-4D2B-BDF2-5BE4E57A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0706-9C39-4F45-9E5C-BFD9F21A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30BCD-6C05-4F5D-B6D2-70D56547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9BD44-4A58-41C9-A50B-9BFF77C1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ABC9C-C62A-478E-B02E-F11053FD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2AE5-7D76-40A2-8691-9CFCFED0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E039B-4AA1-4E73-B3C9-7BB8414D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BF1D0-6FC8-46B8-AF93-081ABF90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AE47-02BD-480D-8BCA-20540370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EBA1-992F-414D-88B7-08102B64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B5313-273C-4622-9165-CCD97C21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CC2-C09B-4BBB-87D2-EE2DE1B4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40742-FA6D-429D-8464-D09C2A85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3E5FA-E2D5-4B53-962B-BEB96ADF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D94F9-2FDF-4FA0-B1A3-20F2EB74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954BC-BEFE-4FFE-BD1A-9A65CA47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B2919-B52F-4377-9D39-B3EFD0F9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7F87-BDE2-4788-B09B-39610FB3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096BB-A964-4EA8-9EF9-9FD6D086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0244-AFDC-4173-AD8F-0DB52686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7474F-8670-4793-A0F2-5442D52C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190C-1495-45FE-B544-21DEEB21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B2B-F19B-4EF9-B6B0-D0F8D9FB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E78DE-BC57-408D-8851-8E450556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2EB33-5B58-43CD-A57D-41D4C9B6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EAC4E-AB63-4A11-9C80-99526382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8ABE6-E695-4573-BE21-38AFE3CC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D02AA-F945-4B3C-B1FA-12775589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614E4-27B3-42EB-A0A9-26E35EE4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F2E89-2D7C-4008-A9D3-91AFAF07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3FDED-DD46-4A30-8E1C-EB904FC9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3D997-B248-43C5-A9CA-36B4532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5D0E5-F5CB-4BAA-9AB1-E1BC9856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7AA-4DD9-458D-AB82-23131AC4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8F883-F463-4EED-9255-39AC60EC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71025-4C21-4F4E-900E-E1622B83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F9F91-B176-48CA-BBD0-3B1F3C5A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B3253-8E62-4966-A582-E9708F9B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7541D-6A35-4AF8-81CA-E88A103F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E38FA-7735-4382-A49F-5F5B297A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99E1C-3707-4BA9-85D1-06DCC0A2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1B179-9E9C-42A8-9795-B2255FA4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817AF-8EE3-40E5-824E-5EECAC4F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03802-BE8C-4AF1-8AA1-FAD60FD3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326-19F9-482E-9BDC-99128F4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ECDDD-DD52-411E-9362-CBDC34CE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22C35-4842-4617-9B4F-AB5E3B5C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1B280-6B98-42B0-8F0B-2732A8C4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87D77-F900-4B29-A859-CFA8F384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9234F-6692-4249-A7C6-FEE30A4E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D7E92-E6C8-47E0-8F31-9331BA87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BEEDB-DE47-4244-A9DA-EB20A886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CAD2F-3237-4BC3-8724-B496232F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3175D-CBBE-4EDB-98E3-796C3996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7BDE-C47A-422C-82D7-80AFEDED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221-BFE2-4F95-ADE6-BB3FB3C2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DC07F-3E68-43ED-AA45-1AE7EFD4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2362E-2D39-4E6B-BDDE-F428D333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BC801-1605-4E7A-A804-F2B2E381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3C3DC-7E3F-4431-8089-EC87C12B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B0C6B-8524-48A1-9A35-6A10C2F4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12AF4-FFA8-403C-8786-9C3B13AB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5515B-7429-48C1-A998-D0071705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2530E-7DC9-46E9-A86C-77AEE3B4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3F6F8-AC78-48FE-B829-3CFA1F7A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7E687-4D3A-479C-9207-BE8CB3A9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6DB6-030E-40F9-929C-DD8D7D937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A2C3-BC49-48B2-8FBF-6EF5BCDFBE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C1E5-9847-45C2-B9E6-81E71AF951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C95C-9896-48A7-B837-447EFD0618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C96D-F429-4A06-8CE0-B13479E510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649F-9986-41FE-B92C-A47D91CA3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EA2D-B8B9-4C7C-9AB0-13063CADBA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8961-5B48-461E-BF21-35968F0329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C90E-33DD-4A99-BB5C-641254B83F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9454-2B34-4459-A3CE-1BA80EE33B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A989-41AC-4BCA-88AB-15A8C8D216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A63D-0C10-489E-88F0-66CBBA3EF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484B-556F-492E-A554-C003F4F533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7251-E570-41FC-B9E9-8E6A552E6E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352B-C5A0-4951-A363-E9C0E4E317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A647-F315-455E-A8CF-B30929E9FB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B297-CFCC-4072-9EA0-CEB3025A6F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7AE4-2AC4-4CF8-BB12-0281593C96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4361-EE03-4888-B016-A09EA7AFEE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F4BD-C9C3-47C0-9605-AF5184E077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1AC3-C15A-41D2-B91F-14663D27D9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89A5-AB26-48A6-BE9F-FEBFAC93EF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740C-BB67-4675-88F5-E14CAD6AB8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CD48-63B2-44B5-9D3F-6EDBBBA790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D87F-67B3-4780-81AF-4FDD160BE8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932C-CF10-4CBC-AF63-B7C4AAF58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FCAA-C732-4F5A-8A75-4BCF09D938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1FEA-56CF-477E-BE18-7321D4624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0581-879B-49E6-8E0A-91ADD6D9FF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301B-CF22-411C-98A8-C83AC65A26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E64D-8B5D-4839-B0EE-9867404C36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2F29-0BE5-4393-B562-DB757588ED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CEE0-4BD6-40D1-B3B7-B54D90B1B9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FC9C-839B-4B15-849C-2E33FEC2C8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83D9-C777-4E01-9885-3AB201F1D9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662E-C1BA-4517-A84D-751C7AAF96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45C-FF01-45ED-92AA-45803F9ACB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31D6-DF26-4F88-BFE1-9FE3B9CB61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919B-2EE9-40BC-AA9D-733381715A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CAB6-C895-43A3-B7AB-482A9C626B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733840" y="3009960"/>
            <a:ext cx="36763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515440" cy="5838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4572000" y="2214720"/>
            <a:ext cx="1214280" cy="392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572240" y="2235240"/>
            <a:ext cx="1000440" cy="393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2071800" y="3052800"/>
            <a:ext cx="1143000" cy="393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5786280" y="3052800"/>
            <a:ext cx="1000440" cy="393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5715000" y="3868560"/>
            <a:ext cx="2000160" cy="392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5643720" y="4308480"/>
            <a:ext cx="1500120" cy="369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2643120" y="4664160"/>
            <a:ext cx="1714680" cy="393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1428840" y="5495760"/>
            <a:ext cx="1000080" cy="393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10"/>
          <a:stretch/>
        </p:blipFill>
        <p:spPr>
          <a:xfrm>
            <a:off x="4572000" y="5500800"/>
            <a:ext cx="15001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714240" y="928800"/>
            <a:ext cx="7934400" cy="8571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2" descr=""/>
          <p:cNvPicPr/>
          <p:nvPr/>
        </p:nvPicPr>
        <p:blipFill>
          <a:blip r:embed="rId2"/>
          <a:stretch/>
        </p:blipFill>
        <p:spPr>
          <a:xfrm>
            <a:off x="341280" y="1766880"/>
            <a:ext cx="8505720" cy="49244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7715160" y="3000240"/>
            <a:ext cx="1071720" cy="392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4"/>
          <a:stretch/>
        </p:blipFill>
        <p:spPr>
          <a:xfrm>
            <a:off x="285840" y="3398760"/>
            <a:ext cx="1714320" cy="393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5"/>
          <a:stretch/>
        </p:blipFill>
        <p:spPr>
          <a:xfrm>
            <a:off x="2143080" y="3807000"/>
            <a:ext cx="1714680" cy="393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6"/>
          <a:stretch/>
        </p:blipFill>
        <p:spPr>
          <a:xfrm>
            <a:off x="6286680" y="4603680"/>
            <a:ext cx="2571480" cy="392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7"/>
          <a:stretch/>
        </p:blipFill>
        <p:spPr>
          <a:xfrm>
            <a:off x="428760" y="5021280"/>
            <a:ext cx="3929040" cy="393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8"/>
          <a:stretch/>
        </p:blipFill>
        <p:spPr>
          <a:xfrm>
            <a:off x="6000840" y="5429160"/>
            <a:ext cx="2857320" cy="392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9"/>
          <a:stretch/>
        </p:blipFill>
        <p:spPr>
          <a:xfrm>
            <a:off x="31680" y="5875200"/>
            <a:ext cx="6786720" cy="366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10"/>
          <a:stretch/>
        </p:blipFill>
        <p:spPr>
          <a:xfrm>
            <a:off x="4376880" y="6316560"/>
            <a:ext cx="100008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338040" y="1000080"/>
            <a:ext cx="8467920" cy="485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1143000" y="1417680"/>
            <a:ext cx="7715160" cy="393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3"/>
          <a:stretch/>
        </p:blipFill>
        <p:spPr>
          <a:xfrm>
            <a:off x="428760" y="1849320"/>
            <a:ext cx="4286160" cy="3715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4"/>
          <a:stretch/>
        </p:blipFill>
        <p:spPr>
          <a:xfrm>
            <a:off x="4500720" y="2259000"/>
            <a:ext cx="2286000" cy="3700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5"/>
          <a:stretch/>
        </p:blipFill>
        <p:spPr>
          <a:xfrm>
            <a:off x="3429000" y="2674800"/>
            <a:ext cx="3357720" cy="368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6"/>
          <a:stretch/>
        </p:blipFill>
        <p:spPr>
          <a:xfrm>
            <a:off x="2928960" y="3470400"/>
            <a:ext cx="3071880" cy="369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7"/>
          <a:stretch/>
        </p:blipFill>
        <p:spPr>
          <a:xfrm>
            <a:off x="3000240" y="3889440"/>
            <a:ext cx="50720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3534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404640" y="1176480"/>
            <a:ext cx="8334720" cy="4505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285840" y="15825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3"/>
          <a:stretch/>
        </p:blipFill>
        <p:spPr>
          <a:xfrm>
            <a:off x="285840" y="1989000"/>
            <a:ext cx="8775720" cy="384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4"/>
          <a:stretch/>
        </p:blipFill>
        <p:spPr>
          <a:xfrm>
            <a:off x="285840" y="240840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5"/>
          <a:stretch/>
        </p:blipFill>
        <p:spPr>
          <a:xfrm>
            <a:off x="285840" y="28065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6"/>
          <a:stretch/>
        </p:blipFill>
        <p:spPr>
          <a:xfrm>
            <a:off x="285840" y="321480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7"/>
          <a:stretch/>
        </p:blipFill>
        <p:spPr>
          <a:xfrm>
            <a:off x="285840" y="362268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8"/>
          <a:stretch/>
        </p:blipFill>
        <p:spPr>
          <a:xfrm>
            <a:off x="285840" y="4046400"/>
            <a:ext cx="8775720" cy="3524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9"/>
          <a:stretch/>
        </p:blipFill>
        <p:spPr>
          <a:xfrm>
            <a:off x="285840" y="44355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10"/>
          <a:stretch/>
        </p:blipFill>
        <p:spPr>
          <a:xfrm>
            <a:off x="285840" y="4842000"/>
            <a:ext cx="8775720" cy="384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11"/>
          <a:stretch/>
        </p:blipFill>
        <p:spPr>
          <a:xfrm>
            <a:off x="285840" y="5253120"/>
            <a:ext cx="87757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5:28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